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30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A97B-32E8-404A-BBEB-BEFDE07B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60F0-3D8C-437D-89AD-29717ED6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FAA-1F89-420F-9A72-7A766EFA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D200-090C-459B-9AEF-62C85892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D179-D103-4362-B2D1-0585D52E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F33D-2F5E-435B-8B5D-A0953B10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2D4D-A752-4D61-8180-B699CAB7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0AA7-3D55-45EB-8543-A608695E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5176-C923-4943-89F6-3995FC6D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20320"/>
            <a:ext cx="82263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7FD6-F784-4015-93CB-0BCEBAEC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EDCC-856D-44CE-8B3D-ACBAADCC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35D3-E96D-4944-B51E-2957A68A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1BD5-92B8-4867-B0AA-BEBA6411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77DB-921E-4559-877A-BA77BC16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395A-9E88-48D4-93C8-579831FF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0321-8BC8-4963-A3B8-1DD374EC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3345-FADA-475C-8827-1480375F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A5AF-55A3-4463-86ED-03E81559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76D2-54D2-464D-9BD4-821E868E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2243-D669-4946-A82D-F72CC11B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20320"/>
            <a:ext cx="82263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6C5E-3B47-41AC-A7E4-AB5A5684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D2AF-7163-4026-A084-943FAF0B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CFAA-7910-413D-8BC8-A8403C26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51E-BFB5-4C7D-AD47-18D2AF75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A5376-6C85-4DA0-91B4-7285580B0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0" t="0" r="637" b="6800"/>
          <a:stretch/>
        </p:blipFill>
        <p:spPr>
          <a:xfrm>
            <a:off x="0" y="2770200"/>
            <a:ext cx="9161640" cy="40212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566640" y="476280"/>
            <a:ext cx="4724640" cy="1411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701139"/>
                </a:solidFill>
                <a:latin typeface="Arial Narrow"/>
              </a:rPr>
              <a:t>Click to edit the title text format</a:t>
            </a:r>
            <a:endParaRPr b="0" lang="en-US" sz="3800" spc="-1" strike="noStrike">
              <a:solidFill>
                <a:srgbClr val="70113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 u="sng">
                <a:solidFill>
                  <a:srgbClr val="008b91"/>
                </a:solidFill>
                <a:uFillTx/>
                <a:latin typeface="Arial Narrow"/>
              </a:rPr>
              <a:t>Click to edit the title text format</a:t>
            </a: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C8F22-F2B3-403C-BB6F-C3BCFF7CA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2056" t="0" r="3700" b="36720"/>
          <a:stretch/>
        </p:blipFill>
        <p:spPr>
          <a:xfrm>
            <a:off x="0" y="5877000"/>
            <a:ext cx="9191520" cy="830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58720" y="6597720"/>
            <a:ext cx="3786120" cy="15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6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image" Target="../media/image7.jpeg"/><Relationship Id="rId17" Type="http://schemas.openxmlformats.org/officeDocument/2006/relationships/image" Target="../media/image5.jpeg"/><Relationship Id="rId18" Type="http://schemas.openxmlformats.org/officeDocument/2006/relationships/image" Target="../media/image6.jpeg"/><Relationship Id="rId19" Type="http://schemas.openxmlformats.org/officeDocument/2006/relationships/image" Target="../media/image7.jpeg"/><Relationship Id="rId20" Type="http://schemas.openxmlformats.org/officeDocument/2006/relationships/image" Target="../media/image8.jpeg"/><Relationship Id="rId21" Type="http://schemas.openxmlformats.org/officeDocument/2006/relationships/image" Target="../media/image9.jpeg"/><Relationship Id="rId22" Type="http://schemas.openxmlformats.org/officeDocument/2006/relationships/image" Target="../media/image10.jpeg"/><Relationship Id="rId23" Type="http://schemas.openxmlformats.org/officeDocument/2006/relationships/image" Target="../media/image11.jpeg"/><Relationship Id="rId24" Type="http://schemas.openxmlformats.org/officeDocument/2006/relationships/image" Target="../media/image12.jpeg"/><Relationship Id="rId25" Type="http://schemas.openxmlformats.org/officeDocument/2006/relationships/image" Target="../media/image13.jpeg"/><Relationship Id="rId26" Type="http://schemas.openxmlformats.org/officeDocument/2006/relationships/image" Target="../media/image19.jpeg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0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21.jpe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23.jpeg"/><Relationship Id="rId15" Type="http://schemas.openxmlformats.org/officeDocument/2006/relationships/image" Target="../media/image28.jpeg"/><Relationship Id="rId16" Type="http://schemas.openxmlformats.org/officeDocument/2006/relationships/image" Target="../media/image21.jpe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jpeg"/><Relationship Id="rId3" Type="http://schemas.openxmlformats.org/officeDocument/2006/relationships/image" Target="../media/image28.jpeg"/><Relationship Id="rId4" Type="http://schemas.openxmlformats.org/officeDocument/2006/relationships/image" Target="../media/image21.jpe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19.jpeg"/><Relationship Id="rId8" Type="http://schemas.openxmlformats.org/officeDocument/2006/relationships/image" Target="../media/image23.jpeg"/><Relationship Id="rId9" Type="http://schemas.openxmlformats.org/officeDocument/2006/relationships/image" Target="../media/image28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30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008b91"/>
                </a:solidFill>
                <a:latin typeface="Arial Narrow"/>
              </a:rPr>
              <a:t>Understanding privacy in voting</a:t>
            </a:r>
            <a:br>
              <a:rPr sz="3800"/>
            </a:br>
            <a:br>
              <a:rPr sz="3800"/>
            </a:br>
            <a:r>
              <a:rPr b="1" lang="en-US" sz="1600" spc="-1" strike="noStrike">
                <a:solidFill>
                  <a:srgbClr val="008b91"/>
                </a:solidFill>
                <a:latin typeface="Arial Narrow"/>
              </a:rPr>
              <a:t>Hugo Jonker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8b91"/>
                </a:solidFill>
                <a:latin typeface="Arial Narrow"/>
              </a:rPr>
              <a:t>Collaborations with Jun, Sjouke, Peter</a:t>
            </a:r>
            <a:br>
              <a:rPr sz="1600"/>
            </a:br>
            <a:r>
              <a:rPr b="1" lang="en-US" sz="1600" spc="-1" strike="noStrike">
                <a:solidFill>
                  <a:srgbClr val="008b91"/>
                </a:solidFill>
                <a:latin typeface="Arial Narrow"/>
              </a:rPr>
              <a:t> Wolter Pieters (NL, UT), Lucie Langer (DE, TUD)</a:t>
            </a:r>
            <a:endParaRPr b="0" lang="en-US" sz="1600" spc="-1" strike="noStrike">
              <a:solidFill>
                <a:srgbClr val="701139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800" spc="-1" strike="noStrike" u="sng">
                <a:solidFill>
                  <a:srgbClr val="008b91"/>
                </a:solidFill>
                <a:uFillTx/>
                <a:latin typeface="Arial Narrow"/>
              </a:rPr>
              <a:t>Thanks for your attention</a:t>
            </a: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 /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2540160" cy="1701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2540160" cy="1689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012000" y="1916280"/>
            <a:ext cx="2539800" cy="1701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39640" y="1700280"/>
            <a:ext cx="2540160" cy="1689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755640" y="306864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6012000" y="1916280"/>
            <a:ext cx="2539800" cy="1701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6012000" y="4076640"/>
            <a:ext cx="2539800" cy="190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3348000" y="4365720"/>
            <a:ext cx="2540160" cy="1701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539640" y="4437000"/>
            <a:ext cx="2540160" cy="1701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3851280" y="1557360"/>
            <a:ext cx="2540160" cy="1701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539640" y="1700280"/>
            <a:ext cx="2540160" cy="1689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2"/>
          <a:stretch/>
        </p:blipFill>
        <p:spPr>
          <a:xfrm>
            <a:off x="755640" y="306864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3"/>
          <a:stretch/>
        </p:blipFill>
        <p:spPr>
          <a:xfrm>
            <a:off x="6012000" y="4076640"/>
            <a:ext cx="2539800" cy="190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4"/>
          <a:stretch/>
        </p:blipFill>
        <p:spPr>
          <a:xfrm>
            <a:off x="3348000" y="4365720"/>
            <a:ext cx="2540160" cy="1701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5"/>
          <a:stretch/>
        </p:blipFill>
        <p:spPr>
          <a:xfrm>
            <a:off x="539640" y="4437000"/>
            <a:ext cx="2540160" cy="1701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6"/>
          <a:stretch/>
        </p:blipFill>
        <p:spPr>
          <a:xfrm>
            <a:off x="6012000" y="1916280"/>
            <a:ext cx="2539800" cy="1701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>
            <a:off x="3851280" y="1557360"/>
            <a:ext cx="2540160" cy="1701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800" spc="-1" strike="noStrike" u="sng">
                <a:solidFill>
                  <a:srgbClr val="008b91"/>
                </a:solidFill>
                <a:uFillTx/>
                <a:latin typeface="Arial Narrow"/>
              </a:rPr>
              <a:t>What is privacy in voting?</a:t>
            </a: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8"/>
          <a:stretch/>
        </p:blipFill>
        <p:spPr>
          <a:xfrm>
            <a:off x="539640" y="1700280"/>
            <a:ext cx="2540160" cy="1689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9"/>
          <a:stretch/>
        </p:blipFill>
        <p:spPr>
          <a:xfrm>
            <a:off x="6012000" y="1916280"/>
            <a:ext cx="2539800" cy="1701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0"/>
          <a:stretch/>
        </p:blipFill>
        <p:spPr>
          <a:xfrm>
            <a:off x="539640" y="1700280"/>
            <a:ext cx="2540160" cy="1689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1"/>
          <a:stretch/>
        </p:blipFill>
        <p:spPr>
          <a:xfrm>
            <a:off x="755640" y="306864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2"/>
          <a:stretch/>
        </p:blipFill>
        <p:spPr>
          <a:xfrm>
            <a:off x="6012000" y="1916280"/>
            <a:ext cx="2539800" cy="1701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3"/>
          <a:stretch/>
        </p:blipFill>
        <p:spPr>
          <a:xfrm>
            <a:off x="6012000" y="4076640"/>
            <a:ext cx="253980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4"/>
          <a:stretch/>
        </p:blipFill>
        <p:spPr>
          <a:xfrm>
            <a:off x="3348000" y="4365720"/>
            <a:ext cx="2540160" cy="1701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5"/>
          <a:stretch/>
        </p:blipFill>
        <p:spPr>
          <a:xfrm>
            <a:off x="539640" y="4437000"/>
            <a:ext cx="2540160" cy="1701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6"/>
          <a:stretch/>
        </p:blipFill>
        <p:spPr>
          <a:xfrm>
            <a:off x="3564000" y="3141720"/>
            <a:ext cx="1904760" cy="12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800" spc="-1" strike="noStrike" u="sng">
                <a:solidFill>
                  <a:srgbClr val="008b91"/>
                </a:solidFill>
                <a:uFillTx/>
                <a:latin typeface="Arial Narrow"/>
              </a:rPr>
              <a:t>Traditional view on privacy</a:t>
            </a: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1905120" cy="1266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2286000" cy="1524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995640" y="4365720"/>
            <a:ext cx="1914480" cy="666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924360" y="1773360"/>
            <a:ext cx="1324080" cy="1323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300720" y="2349360"/>
            <a:ext cx="2664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-priv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pt-fre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rcion-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8 E">
                                      <p:cBhvr>
                                        <p:cTn id="4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8 E">
                                      <p:cBhvr>
                                        <p:cTn id="4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06320" y="1327320"/>
            <a:ext cx="1114560" cy="111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732720" y="2133720"/>
            <a:ext cx="1285920" cy="323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435640" y="4508640"/>
            <a:ext cx="1914480" cy="666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419640" y="4653000"/>
            <a:ext cx="1314360" cy="1238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6659640" y="256536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5076720" y="1413000"/>
            <a:ext cx="2714760" cy="581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5292720" y="5373720"/>
            <a:ext cx="3191040" cy="314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5219640" y="256536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2057400" y="1536840"/>
            <a:ext cx="2441520" cy="1434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0"/>
          <a:stretch/>
        </p:blipFill>
        <p:spPr>
          <a:xfrm>
            <a:off x="2771640" y="3284640"/>
            <a:ext cx="1828800" cy="741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1"/>
          <a:stretch/>
        </p:blipFill>
        <p:spPr>
          <a:xfrm>
            <a:off x="3392640" y="1268280"/>
            <a:ext cx="1323720" cy="1324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2"/>
          <a:stretch/>
        </p:blipFill>
        <p:spPr>
          <a:xfrm>
            <a:off x="539640" y="2708280"/>
            <a:ext cx="1011240" cy="1260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3"/>
          <a:stretch/>
        </p:blipFill>
        <p:spPr>
          <a:xfrm>
            <a:off x="954000" y="4365720"/>
            <a:ext cx="1598760" cy="16682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800" spc="-1" strike="noStrike" u="sng">
                <a:solidFill>
                  <a:srgbClr val="008b91"/>
                </a:solidFill>
                <a:uFillTx/>
                <a:latin typeface="Arial Narrow"/>
              </a:rPr>
              <a:t>Candidates</a:t>
            </a: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4"/>
          <a:stretch/>
        </p:blipFill>
        <p:spPr>
          <a:xfrm>
            <a:off x="6732720" y="2133720"/>
            <a:ext cx="1285920" cy="323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5"/>
          <a:stretch/>
        </p:blipFill>
        <p:spPr>
          <a:xfrm>
            <a:off x="5219640" y="256536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6"/>
          <a:stretch/>
        </p:blipFill>
        <p:spPr>
          <a:xfrm>
            <a:off x="3392640" y="1268280"/>
            <a:ext cx="1323720" cy="1324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7"/>
          <a:stretch/>
        </p:blipFill>
        <p:spPr>
          <a:xfrm>
            <a:off x="539640" y="2708280"/>
            <a:ext cx="1011240" cy="1260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8"/>
          <a:stretch/>
        </p:blipFill>
        <p:spPr>
          <a:xfrm>
            <a:off x="954000" y="4365720"/>
            <a:ext cx="1598760" cy="166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800" spc="-1" strike="noStrike" u="sng">
                <a:solidFill>
                  <a:srgbClr val="008b91"/>
                </a:solidFill>
                <a:uFillTx/>
                <a:latin typeface="Arial Narrow"/>
              </a:rPr>
              <a:t>Our contributions</a:t>
            </a: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63640" y="1449360"/>
            <a:ext cx="1905120" cy="1266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635280" y="1900080"/>
            <a:ext cx="10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 =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1881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g(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664000" y="3213000"/>
            <a:ext cx="1285560" cy="324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176720" y="307008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4896000" y="2924280"/>
            <a:ext cx="677880" cy="677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5718240" y="2530440"/>
            <a:ext cx="836640" cy="1042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6769080" y="2565360"/>
            <a:ext cx="909720" cy="949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724880" y="263700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62160" y="270972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20257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7560" y="4653000"/>
            <a:ext cx="4716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1763640" y="4005360"/>
            <a:ext cx="1905120" cy="1266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635280" y="4456080"/>
            <a:ext cx="10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 =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4437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g(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8"/>
          <a:stretch/>
        </p:blipFill>
        <p:spPr>
          <a:xfrm>
            <a:off x="5183280" y="4870440"/>
            <a:ext cx="1285920" cy="324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9"/>
          <a:stretch/>
        </p:blipFill>
        <p:spPr>
          <a:xfrm>
            <a:off x="6696000" y="472752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7415280" y="4581360"/>
            <a:ext cx="677880" cy="677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8228160" y="429408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1440" y="436716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458136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41022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03560" y="41022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pt-fre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rcion-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/ unive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-as-intended, recorder-as-cast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800" spc="-1" strike="noStrike" u="sng">
                <a:solidFill>
                  <a:srgbClr val="008b91"/>
                </a:solidFill>
                <a:uFillTx/>
                <a:latin typeface="Arial Narrow"/>
              </a:rPr>
              <a:t>Privacy vs. verifiability</a:t>
            </a: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5653440" y="2122560"/>
            <a:ext cx="267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no li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61080" y="438300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li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724360" y="4241880"/>
            <a:ext cx="792360" cy="75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800" spc="-1" strike="noStrike" u="sng">
                <a:solidFill>
                  <a:srgbClr val="008b91"/>
                </a:solidFill>
                <a:uFillTx/>
                <a:latin typeface="Arial Narrow"/>
              </a:rPr>
              <a:t>Links in voting</a:t>
            </a: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1773360"/>
            <a:ext cx="4032000" cy="2347920"/>
          </a:xfrm>
          <a:prstGeom prst="roundRect">
            <a:avLst>
              <a:gd name="adj" fmla="val 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11200" y="3462480"/>
            <a:ext cx="827280" cy="34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ter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3462480"/>
            <a:ext cx="1079640" cy="34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didate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11200" y="2433600"/>
            <a:ext cx="827280" cy="34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llot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0" y="2433600"/>
            <a:ext cx="827280" cy="34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te 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0" idx="0"/>
            <a:endCxn id="172" idx="4"/>
          </p:cNvCxnSpPr>
          <p:nvPr/>
        </p:nvCxnSpPr>
        <p:spPr>
          <a:xfrm flipV="1">
            <a:off x="1825200" y="2775960"/>
            <a:ext cx="2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6"/>
            <a:endCxn id="173" idx="2"/>
          </p:cNvCxnSpPr>
          <p:nvPr/>
        </p:nvCxnSpPr>
        <p:spPr>
          <a:xfrm>
            <a:off x="2238480" y="2604600"/>
            <a:ext cx="1002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3" idx="4"/>
            <a:endCxn id="171" idx="0"/>
          </p:cNvCxnSpPr>
          <p:nvPr/>
        </p:nvCxnSpPr>
        <p:spPr>
          <a:xfrm>
            <a:off x="3654000" y="2776320"/>
            <a:ext cx="183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71" idx="2"/>
            <a:endCxn id="170" idx="6"/>
          </p:cNvCxnSpPr>
          <p:nvPr/>
        </p:nvCxnSpPr>
        <p:spPr>
          <a:xfrm flipH="1">
            <a:off x="2238120" y="3633840"/>
            <a:ext cx="894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78" name=""/>
          <p:cNvCxnSpPr>
            <a:stCxn id="170" idx="7"/>
            <a:endCxn id="173" idx="3"/>
          </p:cNvCxnSpPr>
          <p:nvPr/>
        </p:nvCxnSpPr>
        <p:spPr>
          <a:xfrm flipV="1">
            <a:off x="2117880" y="2725200"/>
            <a:ext cx="1243440" cy="78840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1258920" y="2276640"/>
            <a:ext cx="2881440" cy="8157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68680" y="3576600"/>
            <a:ext cx="206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8680" y="2344680"/>
            <a:ext cx="206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25600" y="3119400"/>
            <a:ext cx="20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39800" y="3119400"/>
            <a:ext cx="20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35280" y="1916280"/>
            <a:ext cx="1538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ting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77960" y="416736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844640"/>
            <a:ext cx="4457880" cy="217188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143680" y="1916280"/>
            <a:ext cx="3200400" cy="2693160"/>
            <a:chOff x="5143680" y="1916280"/>
            <a:chExt cx="3200400" cy="2693160"/>
          </a:xfrm>
        </p:grpSpPr>
        <p:sp>
          <p:nvSpPr>
            <p:cNvPr id="188" name=""/>
            <p:cNvSpPr/>
            <p:nvPr/>
          </p:nvSpPr>
          <p:spPr>
            <a:xfrm>
              <a:off x="5257800" y="3444840"/>
              <a:ext cx="1028880" cy="43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360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ll voters 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01080" y="3444840"/>
              <a:ext cx="1028520" cy="43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360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ul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57800" y="2416320"/>
              <a:ext cx="102888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ceived ballots B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01080" y="2416320"/>
              <a:ext cx="102852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ll vot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2" name=""/>
            <p:cNvCxnSpPr>
              <a:stCxn id="188" idx="0"/>
              <a:endCxn id="190" idx="4"/>
            </p:cNvCxnSpPr>
            <p:nvPr/>
          </p:nvCxnSpPr>
          <p:spPr>
            <a:xfrm flipV="1">
              <a:off x="5772240" y="2847600"/>
              <a:ext cx="2160" cy="597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90" idx="6"/>
              <a:endCxn id="191" idx="2"/>
            </p:cNvCxnSpPr>
            <p:nvPr/>
          </p:nvCxnSpPr>
          <p:spPr>
            <a:xfrm>
              <a:off x="6286680" y="2631600"/>
              <a:ext cx="91512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91" idx="4"/>
              <a:endCxn id="189" idx="0"/>
            </p:cNvCxnSpPr>
            <p:nvPr/>
          </p:nvCxnSpPr>
          <p:spPr>
            <a:xfrm>
              <a:off x="7714800" y="2847960"/>
              <a:ext cx="2520" cy="597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>
              <a:stCxn id="189" idx="2"/>
              <a:endCxn id="188" idx="6"/>
            </p:cNvCxnSpPr>
            <p:nvPr/>
          </p:nvCxnSpPr>
          <p:spPr>
            <a:xfrm flipH="1">
              <a:off x="6286320" y="3660840"/>
              <a:ext cx="9151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96" name=""/>
            <p:cNvCxnSpPr>
              <a:stCxn id="188" idx="7"/>
              <a:endCxn id="191" idx="3"/>
            </p:cNvCxnSpPr>
            <p:nvPr/>
          </p:nvCxnSpPr>
          <p:spPr>
            <a:xfrm flipV="1">
              <a:off x="6135480" y="2784240"/>
              <a:ext cx="1216440" cy="7243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</p:cxnSp>
        <p:sp>
          <p:nvSpPr>
            <p:cNvPr id="197" name=""/>
            <p:cNvSpPr/>
            <p:nvPr/>
          </p:nvSpPr>
          <p:spPr>
            <a:xfrm>
              <a:off x="5143680" y="2276640"/>
              <a:ext cx="3200400" cy="8874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29400" y="364824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29400" y="241632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12000" y="1916280"/>
              <a:ext cx="1609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oting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72320" y="4149720"/>
              <a:ext cx="170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le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800" spc="-1" strike="noStrike" u="sng">
                <a:solidFill>
                  <a:srgbClr val="008b91"/>
                </a:solidFill>
                <a:uFillTx/>
                <a:latin typeface="Arial Narrow"/>
              </a:rPr>
              <a:t>Overall picture</a:t>
            </a: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1476360" y="1628640"/>
            <a:ext cx="4457880" cy="445788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62160" y="5261040"/>
            <a:ext cx="1028880" cy="48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82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ter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05440" y="5261040"/>
            <a:ext cx="1028520" cy="48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82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didate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62160" y="4143240"/>
            <a:ext cx="102888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82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llot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05440" y="4143240"/>
            <a:ext cx="102852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82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te 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4" idx="0"/>
            <a:endCxn id="206" idx="4"/>
          </p:cNvCxnSpPr>
          <p:nvPr/>
        </p:nvCxnSpPr>
        <p:spPr>
          <a:xfrm flipV="1">
            <a:off x="2676600" y="4574520"/>
            <a:ext cx="21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206" idx="6"/>
            <a:endCxn id="207" idx="2"/>
          </p:cNvCxnSpPr>
          <p:nvPr/>
        </p:nvCxnSpPr>
        <p:spPr>
          <a:xfrm>
            <a:off x="3191040" y="4358880"/>
            <a:ext cx="915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7" idx="4"/>
            <a:endCxn id="205" idx="0"/>
          </p:cNvCxnSpPr>
          <p:nvPr/>
        </p:nvCxnSpPr>
        <p:spPr>
          <a:xfrm>
            <a:off x="4619160" y="4574880"/>
            <a:ext cx="2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5" idx="2"/>
            <a:endCxn id="204" idx="6"/>
          </p:cNvCxnSpPr>
          <p:nvPr/>
        </p:nvCxnSpPr>
        <p:spPr>
          <a:xfrm flipH="1">
            <a:off x="3190680" y="5501880"/>
            <a:ext cx="915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1933560" y="2428920"/>
            <a:ext cx="12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igibility   verifi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62160" y="3000240"/>
            <a:ext cx="102888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d ballots B(V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05440" y="3000240"/>
            <a:ext cx="102852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vote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(V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"/>
          <p:cNvCxnSpPr>
            <a:stCxn id="213" idx="6"/>
            <a:endCxn id="214" idx="2"/>
          </p:cNvCxnSpPr>
          <p:nvPr/>
        </p:nvCxnSpPr>
        <p:spPr>
          <a:xfrm>
            <a:off x="3191040" y="3215880"/>
            <a:ext cx="915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2162160" y="1971720"/>
            <a:ext cx="102888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36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voters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05440" y="1971720"/>
            <a:ext cx="102852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36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"/>
          <p:cNvCxnSpPr>
            <a:stCxn id="217" idx="2"/>
            <a:endCxn id="216" idx="6"/>
          </p:cNvCxnSpPr>
          <p:nvPr/>
        </p:nvCxnSpPr>
        <p:spPr>
          <a:xfrm flipH="1">
            <a:off x="3190680" y="2187720"/>
            <a:ext cx="91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9" name=""/>
          <p:cNvCxnSpPr>
            <a:stCxn id="217" idx="4"/>
            <a:endCxn id="214" idx="0"/>
          </p:cNvCxnSpPr>
          <p:nvPr/>
        </p:nvCxnSpPr>
        <p:spPr>
          <a:xfrm>
            <a:off x="4619160" y="2403360"/>
            <a:ext cx="2520" cy="59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0" name=""/>
          <p:cNvCxnSpPr>
            <a:stCxn id="216" idx="4"/>
            <a:endCxn id="213" idx="0"/>
          </p:cNvCxnSpPr>
          <p:nvPr/>
        </p:nvCxnSpPr>
        <p:spPr>
          <a:xfrm>
            <a:off x="2676600" y="2403360"/>
            <a:ext cx="2160" cy="59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3191040" y="1857240"/>
            <a:ext cx="1371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ifi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33760" y="540072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530160" y="5400720"/>
            <a:ext cx="2350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05160" y="5629320"/>
            <a:ext cx="800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onym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3" idx="4"/>
            <a:endCxn id="206" idx="0"/>
          </p:cNvCxnSpPr>
          <p:nvPr/>
        </p:nvCxnSpPr>
        <p:spPr>
          <a:xfrm>
            <a:off x="2676600" y="3431880"/>
            <a:ext cx="2160" cy="71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"/>
          <p:cNvCxnSpPr>
            <a:stCxn id="214" idx="4"/>
            <a:endCxn id="207" idx="0"/>
          </p:cNvCxnSpPr>
          <p:nvPr/>
        </p:nvCxnSpPr>
        <p:spPr>
          <a:xfrm>
            <a:off x="4619160" y="3431880"/>
            <a:ext cx="2520" cy="71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1933560" y="49435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t-by-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19360" y="3571920"/>
            <a:ext cx="800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rded-as-c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04" idx="7"/>
            <a:endCxn id="207" idx="3"/>
          </p:cNvCxnSpPr>
          <p:nvPr/>
        </p:nvCxnSpPr>
        <p:spPr>
          <a:xfrm flipV="1">
            <a:off x="3039840" y="4511160"/>
            <a:ext cx="1216440" cy="820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cxnSp>
        <p:nvCxnSpPr>
          <p:cNvPr id="230" name=""/>
          <p:cNvCxnSpPr>
            <a:stCxn id="216" idx="5"/>
            <a:endCxn id="214" idx="1"/>
          </p:cNvCxnSpPr>
          <p:nvPr/>
        </p:nvCxnSpPr>
        <p:spPr>
          <a:xfrm>
            <a:off x="3039840" y="2339640"/>
            <a:ext cx="1216440" cy="7246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3076560" y="3228840"/>
            <a:ext cx="1371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36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ted-as-recor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62440" y="4029120"/>
            <a:ext cx="14857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ins-correct-vo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8040" y="2886120"/>
            <a:ext cx="3200400" cy="18288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4943520"/>
            <a:ext cx="125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720720" cy="75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800" spc="-1" strike="noStrike" u="sng">
                <a:solidFill>
                  <a:srgbClr val="008b91"/>
                </a:solidFill>
                <a:uFillTx/>
                <a:latin typeface="Arial Narrow"/>
              </a:rPr>
              <a:t>Plans</a:t>
            </a:r>
            <a:endParaRPr b="1" lang="en-US" sz="3800" spc="-1" strike="noStrike" u="sng">
              <a:solidFill>
                <a:srgbClr val="008b91"/>
              </a:solidFill>
              <a:uFillTx/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  ot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 for distribution in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piring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nse coal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to auctions, e-healthcare, anonymous routing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88960" y="1297080"/>
            <a:ext cx="577800" cy="75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07:46:09Z</dcterms:created>
  <dc:creator>danielle.wagner</dc:creator>
  <dc:description/>
  <dc:language>en-US</dc:language>
  <cp:lastModifiedBy>Hugo Jonker</cp:lastModifiedBy>
  <dcterms:modified xsi:type="dcterms:W3CDTF">2010-03-03T11:50:31Z</dcterms:modified>
  <cp:revision>40</cp:revision>
  <dc:subject/>
  <dc:title>Slide 1</dc:title>
</cp:coreProperties>
</file>