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7ED3-7FBE-4EFD-8C05-F07308D4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CD64-E21B-4F45-92BA-18C53E57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E58B-D34D-44D4-BF22-68E5725F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95C8-F7B1-489F-8050-A8817B32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557A-C8F8-43AA-AE5F-A8682B56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2972-A796-400C-A4DE-E3D78637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CFAFA-1C48-4737-B981-7EE9B2CF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625A4-5984-4D33-AF08-0AAB106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F8EE8-13B2-4CAA-8817-D13FFDC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51BE7-276C-4515-8D61-EA440AA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C4212-6D07-4451-B2A8-E250CEE9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2A2B-A9F0-49DD-B755-06A40025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05EBD-9831-49E3-9BAE-6640858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8DCD-9273-4FE6-9C8D-F03AF2C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135B9-3F69-4750-9ECA-F3E55ADE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FE07-7D09-472F-8035-4BF46299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1BAD7-B641-400A-857A-9A490095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B0ED-75D5-4B23-85AB-5BF639B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08F5-A55F-4DA5-BCF4-1A385404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F1E6-EC49-4D87-9430-15A25C4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3D05-E43C-44CD-90A6-D44F7175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F78C-5EB4-462F-A3A2-C9AA3F0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03EC-A384-4B01-A94E-9C11FBB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61FC-0B4A-4939-AB54-60ABDE4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Line 9"/>
          <p:cNvSpPr/>
          <p:nvPr/>
        </p:nvSpPr>
        <p:spPr>
          <a:xfrm>
            <a:off x="431640" y="1017720"/>
            <a:ext cx="853308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76400" indent="-26676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27040" indent="-17136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798560" indent="-19188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798560" indent="-191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798560" indent="-1918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61000"/>
            <a:ext cx="565308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17840" y="6561000"/>
            <a:ext cx="172404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EDF0-6F42-48AF-9898-126D12EDAA18}" type="slidenum">
              <a:rPr b="0" i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372360" y="6561000"/>
            <a:ext cx="201600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2E61-26E7-499C-8E9F-8F6196246138}" type="slidenum">
              <a:rPr b="0" i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428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9640" algn="ctr">
              <a:lnSpc>
                <a:spcPct val="110000"/>
              </a:lnSpc>
              <a:spcBef>
                <a:spcPts val="400"/>
              </a:spcBef>
              <a:buClr>
                <a:srgbClr val="a50021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255680" algn="ctr">
              <a:lnSpc>
                <a:spcPct val="110000"/>
              </a:lnSpc>
              <a:spcBef>
                <a:spcPts val="349"/>
              </a:spcBef>
              <a:buClr>
                <a:srgbClr val="a50021"/>
              </a:buClr>
              <a:buFont typeface="Verdana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606680" algn="ctr">
              <a:lnSpc>
                <a:spcPct val="110000"/>
              </a:lnSpc>
              <a:buClr>
                <a:srgbClr val="a50021"/>
              </a:buClr>
              <a:buFont typeface="Verdana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60668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606680">
              <a:spcBef>
                <a:spcPts val="3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Crime Researc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ichard Clay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5516640"/>
            <a:ext cx="2752560" cy="89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51640" y="5516640"/>
            <a:ext cx="29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uxembour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May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am m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telescope (darkn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ssive D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lware coll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og spam coll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neypot mach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ground economy 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z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sy to get on the m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lware, Botn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ll-trodden areas, needing new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pam, Phishing, Hac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ttern recognition payof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DoS, Malware/Botnet traffic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rgin terri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log sp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Sc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Y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0360" indent="-187560">
              <a:lnSpc>
                <a:spcPct val="11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ke Escrow, etc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Crime Researc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LOG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ttp://www.lightbluetouchpaper.or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PER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ttp://www.cl.cam.ac.uk/~rnc1/publications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5516640"/>
            <a:ext cx="2752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day’s tal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o am 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’ve been doing in Luxembou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ypes of crimi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arch 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l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licious software” (worm/virus/trojan/drive-by-downlo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havioural analysis (how do we know it’s b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samples now unique, so hard to measure any tr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ction (Google’s scanning already a special c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w browser designs for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sting providers need detec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we detect bad sites on the wire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otn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wiss-army knife: DDoS, spam, click fraud, fastflux ho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entification/interdiction of rendezvous sc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entification of activity (and C&amp;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tter 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ruption/take-over: but complex ethic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ll trodden area – but new systems all th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hi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ft of credentials by imperso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ements of lifetimes, blacklist effectiveness &amp;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rovements to user interfaces/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rovements to authentication (PassPet, PAK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ing/detecting man-in-the-brow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suring/detecting key log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permission based mass mess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mail spam de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age sp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iable measu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ct forms on web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og sp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ke blogs (Google groups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uman detection (CAPTCHAs &amp;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acking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authorised access to computing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can we secure one machi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can we secure millions of mach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can hosting providers secure thousands of mach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do criminals find vulnerable machi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 can we provide realistic measurements of activit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tributed (usually) Denial of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ction of DDoS (at endpoint, on networks, at IX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ceback of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ysis of targets/motivation/cap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280" y="188640"/>
            <a:ext cx="87123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305000"/>
            <a:ext cx="8533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ick Frau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data hard to obt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YIP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lots of data, trivial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ke escr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limited data, victims secre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19 scam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extensive data on early stages of sc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ttery scam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hardly stud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ake bank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associated with 419 sc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20000"/>
              </a:lnSpc>
              <a:spcBef>
                <a:spcPts val="10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nterfeit goo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 hardly stud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cp:lastPrinted>1900-12-31T23:00:00Z</cp:lastPrinted>
  <dcterms:modified xsi:type="dcterms:W3CDTF">2010-05-11T10:13:10Z</dcterms:modified>
  <cp:revision>20</cp:revision>
  <dc:subject/>
  <dc:title>eCrime Research</dc:title>
</cp:coreProperties>
</file>